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405F9-7437-4CCE-8002-24C0CA866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1B9C5-099B-4561-A05B-6B0FEB678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A3F1C-BBBF-4AEB-AD62-E1C6DFC8F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A5D46-CAD9-40FC-B9D7-320952741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80FCA-E3F9-4396-AE46-8FD5708A5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68E2E-E8DE-4CE1-9489-C23929179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0EF93-6F6C-41B9-A46E-77D15FA00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B3BF8-8917-422B-953C-B52FDBF19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45788-CFDD-48C7-8D79-BF5FD9393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DE207-9BC3-4061-ABAC-AA149172F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52A22-9E92-4D1B-A6A1-DB080637C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3096A-6238-4026-A5BF-E46499BAE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2B39F-2FED-4A17-B427-FCD13153A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F35A2-5337-42A2-9277-57733249D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29787-36D6-46FC-BA39-EFEAA311E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5148C-45FB-446A-AFA4-0A2DDE867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8E258-70FB-42CA-AC44-0B39C064D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B26F6E-295B-4B1F-9499-0634534DC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FBB5E2-A073-4CD2-A1AD-2FC20E58D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98C783-1A33-46E4-AF80-9448EE033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1F7FE2-A001-47A5-BF80-D45177DD1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156B5E-1581-48F1-AB18-28BF39B73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5EBE4-2E6F-4760-9E4E-A58D8E069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0F91A6-0963-42F6-8F0E-95F7AC450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8C5BF9-4ADB-4CEB-8779-0C3A1AB69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79F2C3-4B00-4E46-9283-C409CD5F1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BB53EE-95B1-478A-8826-FF3775345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AE74A3-EAAC-4AE6-82CE-90A884858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5E3534-50D4-4742-BED6-C0F015C50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45CEFA-D916-4559-AC0B-404EEA0D2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F5F138-E27F-4366-B54C-853F15518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D93D03-AF12-4FA5-ACE8-528F86E70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CAD045-5509-43F3-BC7C-FAACCD80B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92069-F141-4F56-B58C-71A499D8E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7B9396-5C72-40D6-AE59-2E88F2BE6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6D9C41-27C3-490B-8423-E7D80DEB5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02FFD7-01E5-4B0F-90A4-95D358C5C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00C691-49C8-4F07-9074-D2A345B5E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C4F9BF-48DD-40A8-A8A2-9B2819C20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BFD62D-C689-45F7-9228-0D2851290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AA0E23-C894-4D07-A82D-26B1CE97F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C99B74-5CB5-4A0F-9537-136C1EE4B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9D19C3-224C-42E8-80CB-4C326ED37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DE4DE7-CBA9-4C3B-81D9-9534F8BE8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CDCAA-65CA-4C12-A600-94A1CFD10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5AD63B-6BDB-4C36-8EB7-EFEFCB716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2DDF09-C6C3-41C0-84AE-5BA0FC8D1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C2D159-3511-4130-8C00-D8ACE6545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9AC9B6-482F-4575-BA97-B5A2F8CE6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0C3B7B-17A2-46EB-87CB-9313DA92F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3079F1-AE71-498C-BB93-1025A2880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C1C127-A705-4FBA-9D70-50C119988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67703D-C494-4CF9-8BE4-FE5E9A954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CCD7F1-369C-4E18-9D3A-D599A382A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AFF804-E300-4FD3-93B7-7139C1C38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BBEB3-0879-4168-8C5C-85D8A12AE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BD6761-B64D-4C97-B24B-A8FE9FE4C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A43C7-D227-447B-9B08-C81C0EE7F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4FDA6-CCBB-4460-8219-E3E7E6FE9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C651F-25F0-45A3-A26C-BAC5EEC04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5DC89-4BBC-4E0E-8ED2-7853E22CE284}" type="slidenum">
              <a:rPr b="0" lang="es-E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189000"/>
            <a:ext cx="8229600" cy="609480"/>
          </a:xfrm>
          <a:prstGeom prst="pie">
            <a:avLst/>
          </a:pr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38172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Text Box 9"/>
          <p:cNvSpPr/>
          <p:nvPr/>
        </p:nvSpPr>
        <p:spPr>
          <a:xfrm>
            <a:off x="34920" y="650880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f5f5f"/>
                </a:solidFill>
                <a:latin typeface="Arial"/>
              </a:rPr>
              <a:t>JM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Freeform 7"/>
          <p:cNvSpPr/>
          <p:nvPr/>
        </p:nvSpPr>
        <p:spPr>
          <a:xfrm>
            <a:off x="609480" y="1219320"/>
            <a:ext cx="7925040" cy="914400"/>
          </a:xfrm>
          <a:prstGeom prst="pie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D38E7-6915-4FE2-AF95-FDD0DDE0DF1E}" type="slidenum">
              <a:rPr b="0" lang="es-E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7"/>
          <p:cNvSpPr/>
          <p:nvPr/>
        </p:nvSpPr>
        <p:spPr>
          <a:xfrm>
            <a:off x="609480" y="1219320"/>
            <a:ext cx="7925040" cy="914400"/>
          </a:xfrm>
          <a:prstGeom prst="pie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B4159-616D-40A9-9097-751154C942F3}" type="slidenum">
              <a:rPr b="0" lang="es-E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3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6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29FA9-0CCE-430D-86C5-1CFC101C52C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21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24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8301B-EBF9-4DF1-918D-9B4CD82651F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3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3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TEMA 2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VARIEDADES TEXTUAL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LA COMUNICACIÓ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CAMBIO DE MENSAJ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DIANTE SIGN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TRE DOS O MÁS SE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 UNA INTENCIÓN DETERMINAD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2000"/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2000"/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2000"/>
                                        <p:tgtEl>
                                          <p:spTgt spid="2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2000"/>
                                        <p:tgtEl>
                                          <p:spTgt spid="2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FORMAS DE COMUNICACIÓ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79280" y="2060640"/>
            <a:ext cx="87854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0" lang="es-ES" sz="3200" spc="-1" strike="noStrike" u="sng">
                <a:solidFill>
                  <a:srgbClr val="ffffff"/>
                </a:solidFill>
                <a:uFillTx/>
                <a:latin typeface="Arial"/>
              </a:rPr>
              <a:t>COMUNICACIÓN VERB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MEDIANTE SIGNOS LINGÜÍSTICO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ORAL : DIÁLOGO, TERTULIA, DEBATE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SCRITA: CARTA, DIARIO, NOTA,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0" lang="es-ES" sz="3200" spc="-1" strike="noStrike" u="sng">
                <a:solidFill>
                  <a:srgbClr val="ffffff"/>
                </a:solidFill>
                <a:uFillTx/>
                <a:latin typeface="Arial"/>
              </a:rPr>
              <a:t>MEDIANTE SIGNOS NO LINGÜÍSTICO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VISUALES: DIBUJO, SÍMBOLO,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GESTUALES: ABRAZO, MIRADA,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AUDITIVOS: TIMBRE, APLAUSOS,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" dur="2000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2000"/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2000"/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2000"/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2000"/>
                                        <p:tgtEl>
                                          <p:spTgt spid="2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2000"/>
                                        <p:tgtEl>
                                          <p:spTgt spid="2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2000"/>
                                        <p:tgtEl>
                                          <p:spTgt spid="2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" dur="2000"/>
                                        <p:tgtEl>
                                          <p:spTgt spid="2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ffffff"/>
                </a:solidFill>
                <a:uFillTx/>
                <a:latin typeface="Arial"/>
              </a:rPr>
              <a:t>ELEMENTOS DEL PROCESO COMUNICATIVO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785440" cy="51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0" lang="es-ES" sz="1800" spc="-1" strike="noStrike" u="sng">
                <a:solidFill>
                  <a:srgbClr val="ffffff"/>
                </a:solidFill>
                <a:uFillTx/>
                <a:latin typeface="Arial"/>
              </a:rPr>
              <a:t>EMISOR: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TRANSMITE INFORMAC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0" lang="es-ES" sz="1800" spc="-1" strike="noStrike" u="sng">
                <a:solidFill>
                  <a:srgbClr val="ffffff"/>
                </a:solidFill>
                <a:uFillTx/>
                <a:latin typeface="Arial"/>
              </a:rPr>
              <a:t>RECEPTOR: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LA RECIB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0" lang="es-ES" sz="1800" spc="-1" strike="noStrike" u="sng">
                <a:solidFill>
                  <a:srgbClr val="ffffff"/>
                </a:solidFill>
                <a:uFillTx/>
                <a:latin typeface="Arial"/>
              </a:rPr>
              <a:t> MENSAJE: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ES LA INFORMAC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4. </a:t>
            </a:r>
            <a:r>
              <a:rPr b="0" lang="es-ES" sz="1800" spc="-1" strike="noStrike" u="sng">
                <a:solidFill>
                  <a:srgbClr val="ffffff"/>
                </a:solidFill>
                <a:uFillTx/>
                <a:latin typeface="Arial"/>
              </a:rPr>
              <a:t>CANAL: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MEDIO POR EL QUE SE TRANSMIT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NATURAL: SENTID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ARTIFICIAL: TELÉFONO, TELEVISOR,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5. </a:t>
            </a:r>
            <a:r>
              <a:rPr b="0" lang="es-ES" sz="1800" spc="-1" strike="noStrike" u="sng">
                <a:solidFill>
                  <a:srgbClr val="ffffff"/>
                </a:solidFill>
                <a:uFillTx/>
                <a:latin typeface="Arial"/>
              </a:rPr>
              <a:t>CÓDIGO: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CONJUNTO DE SIGNOS, CON UNAS REGLA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SzPct val="158762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CONOCIDAS  POR EMISOR Y RECEPTO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6. </a:t>
            </a:r>
            <a:r>
              <a:rPr b="0" lang="es-ES" sz="1800" spc="-1" strike="noStrike" u="sng">
                <a:solidFill>
                  <a:srgbClr val="ffffff"/>
                </a:solidFill>
                <a:uFillTx/>
                <a:latin typeface="Arial"/>
              </a:rPr>
              <a:t>CONTEXTO O SITUACIÓN: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CIRCUNSTANCI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SzPct val="158762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ESPACIO, TIEMPO, CULTURA, ….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7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2000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2000"/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2000"/>
                                        <p:tgtEl>
                                          <p:spTgt spid="2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2000"/>
                                        <p:tgtEl>
                                          <p:spTgt spid="2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" dur="2000"/>
                                        <p:tgtEl>
                                          <p:spTgt spid="2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2000"/>
                                        <p:tgtEl>
                                          <p:spTgt spid="2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2000"/>
                                        <p:tgtEl>
                                          <p:spTgt spid="29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2000"/>
                                        <p:tgtEl>
                                          <p:spTgt spid="29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" dur="2000"/>
                                        <p:tgtEl>
                                          <p:spTgt spid="29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" dur="2000"/>
                                        <p:tgtEl>
                                          <p:spTgt spid="29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" dur="2000"/>
                                        <p:tgtEl>
                                          <p:spTgt spid="29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ffffff"/>
                </a:solidFill>
                <a:uFillTx/>
                <a:latin typeface="Arial"/>
              </a:rPr>
              <a:t>ELEMENTOS DEL PROCESO COMUNICATIVO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785440" cy="51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0" lang="es-ES" sz="1800" spc="-1" strike="noStrike" u="sng">
                <a:solidFill>
                  <a:srgbClr val="ffffff"/>
                </a:solidFill>
                <a:uFillTx/>
                <a:latin typeface="Arial"/>
              </a:rPr>
              <a:t>EMISOR: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TRANSMITE INFORMAC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0" lang="es-ES" sz="1800" spc="-1" strike="noStrike" u="sng">
                <a:solidFill>
                  <a:srgbClr val="ffffff"/>
                </a:solidFill>
                <a:uFillTx/>
                <a:latin typeface="Arial"/>
              </a:rPr>
              <a:t>RECEPTOR: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LA RECIB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0" lang="es-ES" sz="1800" spc="-1" strike="noStrike" u="sng">
                <a:solidFill>
                  <a:srgbClr val="ffffff"/>
                </a:solidFill>
                <a:uFillTx/>
                <a:latin typeface="Arial"/>
              </a:rPr>
              <a:t> MENSAJE: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ES LA INFORMAC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4. </a:t>
            </a:r>
            <a:r>
              <a:rPr b="0" lang="es-ES" sz="1800" spc="-1" strike="noStrike" u="sng">
                <a:solidFill>
                  <a:srgbClr val="ffffff"/>
                </a:solidFill>
                <a:uFillTx/>
                <a:latin typeface="Arial"/>
              </a:rPr>
              <a:t>CANAL: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MEDIO POR EL QUE SE TRANSMIT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NATURAL: SENTID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ARTIFICIAL: TELÉFONO, TELEVISOR,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5. </a:t>
            </a:r>
            <a:r>
              <a:rPr b="0" lang="es-ES" sz="1800" spc="-1" strike="noStrike" u="sng">
                <a:solidFill>
                  <a:srgbClr val="ffffff"/>
                </a:solidFill>
                <a:uFillTx/>
                <a:latin typeface="Arial"/>
              </a:rPr>
              <a:t>CÓDIGO: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CONJUNTO DE SIGNOS, CON UNAS REGLA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SzPct val="158762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CONOCIDAS  POR EMISOR Y RECEPTO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6. </a:t>
            </a:r>
            <a:r>
              <a:rPr b="0" lang="es-ES" sz="1800" spc="-1" strike="noStrike" u="sng">
                <a:solidFill>
                  <a:srgbClr val="ffffff"/>
                </a:solidFill>
                <a:uFillTx/>
                <a:latin typeface="Arial"/>
              </a:rPr>
              <a:t>CONTEXTO O SITUACIÓN: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CIRCUNSTANCI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SzPct val="158762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ESPACIO, TIEMPO, CULTURA, ….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3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8" dur="2000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3" dur="2000"/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8" dur="2000"/>
                                        <p:tgtEl>
                                          <p:spTgt spid="3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3" dur="2000"/>
                                        <p:tgtEl>
                                          <p:spTgt spid="3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6" dur="2000"/>
                                        <p:tgtEl>
                                          <p:spTgt spid="3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9" dur="2000"/>
                                        <p:tgtEl>
                                          <p:spTgt spid="3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4" dur="2000"/>
                                        <p:tgtEl>
                                          <p:spTgt spid="3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9" dur="2000"/>
                                        <p:tgtEl>
                                          <p:spTgt spid="30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2" dur="2000"/>
                                        <p:tgtEl>
                                          <p:spTgt spid="30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7" dur="2000"/>
                                        <p:tgtEl>
                                          <p:spTgt spid="30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0" dur="2000"/>
                                        <p:tgtEl>
                                          <p:spTgt spid="30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0T18:51:45Z</dcterms:created>
  <dc:creator>AUDIOLEASK</dc:creator>
  <dc:description/>
  <dc:language>en-US</dc:language>
  <cp:lastModifiedBy>AUDIOLEASK</cp:lastModifiedBy>
  <dcterms:modified xsi:type="dcterms:W3CDTF">2013-11-10T19:17:56Z</dcterms:modified>
  <cp:revision>2</cp:revision>
  <dc:subject/>
  <dc:title>Diapositiva 1</dc:title>
</cp:coreProperties>
</file>